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727825" cy="9717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04640" y="1665360"/>
            <a:ext cx="82296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04640" y="4163760"/>
            <a:ext cx="82296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04640" y="1665360"/>
            <a:ext cx="40158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21680" y="1665360"/>
            <a:ext cx="40158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04640" y="4163760"/>
            <a:ext cx="40158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21680" y="4163760"/>
            <a:ext cx="40158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04640" y="1665360"/>
            <a:ext cx="26496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87080" y="1665360"/>
            <a:ext cx="26496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69520" y="1665360"/>
            <a:ext cx="26496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04640" y="4163760"/>
            <a:ext cx="26496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87080" y="4163760"/>
            <a:ext cx="26496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69520" y="4163760"/>
            <a:ext cx="26496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04640" y="1665360"/>
            <a:ext cx="8229600" cy="47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04640" y="1665360"/>
            <a:ext cx="82296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04640" y="1665360"/>
            <a:ext cx="40158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21680" y="1665360"/>
            <a:ext cx="40158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04640" y="1665360"/>
            <a:ext cx="40158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1680" y="1665360"/>
            <a:ext cx="40158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04640" y="4163760"/>
            <a:ext cx="40158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04640" y="1665360"/>
            <a:ext cx="8229600" cy="47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04640" y="1665360"/>
            <a:ext cx="40158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1680" y="1665360"/>
            <a:ext cx="40158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21680" y="4163760"/>
            <a:ext cx="40158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04640" y="1665360"/>
            <a:ext cx="40158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21680" y="1665360"/>
            <a:ext cx="40158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04640" y="4163760"/>
            <a:ext cx="82296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04640" y="1665360"/>
            <a:ext cx="82296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04640" y="4163760"/>
            <a:ext cx="82296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04640" y="1665360"/>
            <a:ext cx="40158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21680" y="1665360"/>
            <a:ext cx="40158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04640" y="4163760"/>
            <a:ext cx="40158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21680" y="4163760"/>
            <a:ext cx="40158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04640" y="1665360"/>
            <a:ext cx="26496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187080" y="1665360"/>
            <a:ext cx="26496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9520" y="1665360"/>
            <a:ext cx="26496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640" y="4163760"/>
            <a:ext cx="26496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187080" y="4163760"/>
            <a:ext cx="26496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9520" y="4163760"/>
            <a:ext cx="26496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04640" y="1665360"/>
            <a:ext cx="82296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04640" y="1665360"/>
            <a:ext cx="40158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21680" y="1665360"/>
            <a:ext cx="40158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04640" y="1665360"/>
            <a:ext cx="40158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21680" y="1665360"/>
            <a:ext cx="40158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04640" y="4163760"/>
            <a:ext cx="40158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04640" y="1665360"/>
            <a:ext cx="40158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21680" y="1665360"/>
            <a:ext cx="40158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21680" y="4163760"/>
            <a:ext cx="40158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04640" y="1665360"/>
            <a:ext cx="40158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21680" y="1665360"/>
            <a:ext cx="40158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04640" y="4163760"/>
            <a:ext cx="82296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body"/>
          </p:nvPr>
        </p:nvSpPr>
        <p:spPr>
          <a:xfrm>
            <a:off x="404640" y="1665360"/>
            <a:ext cx="82296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85800" indent="-4572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371600" indent="-45720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057400" indent="-4572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743200" indent="-4572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29000" indent="-4572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29000" indent="-4572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29000" indent="-4572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401760" y="2095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Escondido Amateur Radio Society Quiz Night - 2008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48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04640" y="1544400"/>
            <a:ext cx="8229600" cy="49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lcome !!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mixture of questions: historical, theoretical, operational, legal, factual, … Some multiple choice – others straight answ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me easy, some not so easy…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ut all in fu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5 questions – in about 30 minut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00160" y="4006800"/>
            <a:ext cx="251748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04640" y="1665360"/>
            <a:ext cx="82296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38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838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838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electronic component does the following symbol represent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838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838080" indent="-609480">
              <a:spcBef>
                <a:spcPts val="60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N-Channel dual-gate MOSF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838080" indent="-609480">
              <a:spcBef>
                <a:spcPts val="60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P-Channel dual-gate MOSF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838080" indent="-609480">
              <a:spcBef>
                <a:spcPts val="60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NPN Bipolar junction transist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838080" indent="-609480">
              <a:spcBef>
                <a:spcPts val="60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PNP Bipolar junction transist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6396120" y="3543480"/>
            <a:ext cx="2244600" cy="27763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200160" y="4006800"/>
            <a:ext cx="251748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04640" y="1665360"/>
            <a:ext cx="82296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38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uestion 9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838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838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ich IOTA number is for Puerto Rico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838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838080" indent="-609480">
              <a:spcBef>
                <a:spcPts val="60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SA-03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838080" indent="-609480">
              <a:spcBef>
                <a:spcPts val="60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NA-4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838080" indent="-609480">
              <a:spcBef>
                <a:spcPts val="60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NA-9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838080" indent="-609480">
              <a:spcBef>
                <a:spcPts val="60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EU-12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200160" y="4006800"/>
            <a:ext cx="251748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04640" y="1665360"/>
            <a:ext cx="82296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38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uestion 10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838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838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ich of these are not valid UK call-sign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838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838080" indent="-609480">
              <a:spcBef>
                <a:spcPts val="60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GD0AG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838080" indent="-609480">
              <a:spcBef>
                <a:spcPts val="60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2M0AU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838080" indent="-609480">
              <a:spcBef>
                <a:spcPts val="60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MP56HA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838080" indent="-609480">
              <a:spcBef>
                <a:spcPts val="60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MM5TQ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200160" y="4006800"/>
            <a:ext cx="251748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04640" y="1665360"/>
            <a:ext cx="82296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uestion 11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is the total value of the two capacitors, when connected in parallel - if each is 1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µF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914400" indent="-685800">
              <a:spcBef>
                <a:spcPts val="60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5 </a:t>
            </a:r>
            <a:r>
              <a:rPr b="0" lang="en-US" sz="2400" spc="-1" strike="noStrike">
                <a:solidFill>
                  <a:srgbClr val="ffcc66"/>
                </a:solidFill>
                <a:latin typeface="Arial"/>
                <a:ea typeface="Arial"/>
              </a:rPr>
              <a:t>µ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 indent="-685800">
              <a:spcBef>
                <a:spcPts val="60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10 </a:t>
            </a:r>
            <a:r>
              <a:rPr b="0" lang="en-US" sz="2400" spc="-1" strike="noStrike">
                <a:solidFill>
                  <a:srgbClr val="ffcc66"/>
                </a:solidFill>
                <a:latin typeface="Arial"/>
                <a:ea typeface="Arial"/>
              </a:rPr>
              <a:t>µ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 indent="-685800">
              <a:spcBef>
                <a:spcPts val="60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20 </a:t>
            </a:r>
            <a:r>
              <a:rPr b="0" lang="en-US" sz="2400" spc="-1" strike="noStrike">
                <a:solidFill>
                  <a:srgbClr val="ffcc66"/>
                </a:solidFill>
                <a:latin typeface="Arial"/>
                <a:ea typeface="Arial"/>
              </a:rPr>
              <a:t>µ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 indent="-685800">
              <a:spcBef>
                <a:spcPts val="60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33 </a:t>
            </a:r>
            <a:r>
              <a:rPr b="0" lang="en-US" sz="2400" spc="-1" strike="noStrike">
                <a:solidFill>
                  <a:srgbClr val="ffcc66"/>
                </a:solidFill>
                <a:latin typeface="Arial"/>
                <a:ea typeface="Arial"/>
              </a:rPr>
              <a:t>µ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475080" y="3562200"/>
            <a:ext cx="5383080" cy="29530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200160" y="4006800"/>
            <a:ext cx="251748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04640" y="1665360"/>
            <a:ext cx="82296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uestion 12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what year was the USA “W” call-sign prefix first introduced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914400" indent="-685800">
              <a:spcBef>
                <a:spcPts val="60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190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 indent="-685800">
              <a:spcBef>
                <a:spcPts val="60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191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 indent="-685800">
              <a:spcBef>
                <a:spcPts val="60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192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 indent="-685800">
              <a:spcBef>
                <a:spcPts val="60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193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200160" y="4006800"/>
            <a:ext cx="251748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04640" y="1665360"/>
            <a:ext cx="82296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uestion 13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was the name of the US TV Sci-Fi show - about a small town’s survival after a nuclear attack on 24 US cities - in which the opening credits are done in Morse cod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200160" y="4006800"/>
            <a:ext cx="251748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04640" y="1665360"/>
            <a:ext cx="82296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38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uestion 14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838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838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was the former name of the land now known as Taiwa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838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838080" indent="-609480">
              <a:spcBef>
                <a:spcPts val="60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Formo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838080" indent="-609480">
              <a:spcBef>
                <a:spcPts val="60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Indo-Chi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838080" indent="-609480">
              <a:spcBef>
                <a:spcPts val="60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New Chi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838080" indent="-609480">
              <a:spcBef>
                <a:spcPts val="60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New Hong-Ko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200160" y="4006800"/>
            <a:ext cx="251748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04640" y="1665360"/>
            <a:ext cx="82296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38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uestion 15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838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838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frequency at which a power pentode’s screen capacitance and lead inductance are in resonance is called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838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838080" indent="-609480">
              <a:spcBef>
                <a:spcPts val="60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Cut-off frequenc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838080" indent="-609480">
              <a:spcBef>
                <a:spcPts val="60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Bias Poi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838080" indent="-609480">
              <a:spcBef>
                <a:spcPts val="60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Self-neutralizing frequenc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838080" indent="-609480">
              <a:spcBef>
                <a:spcPts val="60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Maximum Usable Frequenc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200160" y="4006800"/>
            <a:ext cx="251748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404640" y="1665360"/>
            <a:ext cx="82296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38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uestion 16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838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838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was DXCC introduced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838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838080" indent="-609480">
              <a:spcBef>
                <a:spcPts val="60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193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838080" indent="-609480">
              <a:spcBef>
                <a:spcPts val="60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192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838080" indent="-609480">
              <a:spcBef>
                <a:spcPts val="60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194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838080" indent="-609480">
              <a:spcBef>
                <a:spcPts val="60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193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200160" y="4006800"/>
            <a:ext cx="251748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04640" y="1665360"/>
            <a:ext cx="82296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38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uestion 17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838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838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ich space shuttle carried Owen Garriott, W5LFL into spac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838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838080" indent="-609480">
              <a:spcBef>
                <a:spcPts val="60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Discove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838080" indent="-609480">
              <a:spcBef>
                <a:spcPts val="60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Endeav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838080" indent="-609480">
              <a:spcBef>
                <a:spcPts val="60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Columb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838080" indent="-609480">
              <a:spcBef>
                <a:spcPts val="60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Challeng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04640" y="1544400"/>
            <a:ext cx="8229600" cy="49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rst steps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914400" indent="-68580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ose your team captai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 indent="-68580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ose your team nam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914400" indent="-68580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shouting out the answ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 indent="-68580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asking questi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200160" y="4006800"/>
            <a:ext cx="251748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04640" y="1665360"/>
            <a:ext cx="82296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38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uestion 18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838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838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is the Inductive reactance (X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Arial"/>
              </a:rPr>
              <a:t>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 of a 56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µH inductor, at a frequency of 7MHz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838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838080" indent="-609480">
              <a:spcBef>
                <a:spcPts val="60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Arial"/>
                <a:ea typeface="Arial"/>
              </a:rPr>
              <a:t>2.46 </a:t>
            </a:r>
            <a:r>
              <a:rPr b="0" lang="el-GR" sz="2400" spc="-1" strike="noStrike">
                <a:solidFill>
                  <a:srgbClr val="ffcc66"/>
                </a:solidFill>
                <a:latin typeface="Arial"/>
                <a:ea typeface="Arial"/>
              </a:rPr>
              <a:t>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838080" indent="-609480">
              <a:spcBef>
                <a:spcPts val="60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Arial"/>
                <a:ea typeface="Arial"/>
              </a:rPr>
              <a:t>24.6 </a:t>
            </a:r>
            <a:r>
              <a:rPr b="0" lang="el-GR" sz="2400" spc="-1" strike="noStrike">
                <a:solidFill>
                  <a:srgbClr val="ffcc66"/>
                </a:solidFill>
                <a:latin typeface="Arial"/>
                <a:ea typeface="Arial"/>
              </a:rPr>
              <a:t>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838080" indent="-609480">
              <a:spcBef>
                <a:spcPts val="60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Arial"/>
                <a:ea typeface="Arial"/>
              </a:rPr>
              <a:t>246 </a:t>
            </a:r>
            <a:r>
              <a:rPr b="0" lang="el-GR" sz="2400" spc="-1" strike="noStrike">
                <a:solidFill>
                  <a:srgbClr val="ffcc66"/>
                </a:solidFill>
                <a:latin typeface="Arial"/>
                <a:ea typeface="Arial"/>
              </a:rPr>
              <a:t>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838080" indent="-609480">
              <a:spcBef>
                <a:spcPts val="60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Arial"/>
                <a:ea typeface="Arial"/>
              </a:rPr>
              <a:t>2.46k </a:t>
            </a:r>
            <a:r>
              <a:rPr b="0" lang="el-GR" sz="2400" spc="-1" strike="noStrike">
                <a:solidFill>
                  <a:srgbClr val="ffcc66"/>
                </a:solidFill>
                <a:latin typeface="Arial"/>
                <a:ea typeface="Arial"/>
              </a:rPr>
              <a:t>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200160" y="4006800"/>
            <a:ext cx="251748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04640" y="1665360"/>
            <a:ext cx="82296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38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uestion 19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838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838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 you have to give your call-sign when you first call a new statio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838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838080" indent="-609480">
              <a:spcBef>
                <a:spcPts val="60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Y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838080" indent="-609480">
              <a:spcBef>
                <a:spcPts val="60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N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838080" indent="-609480">
              <a:spcBef>
                <a:spcPts val="60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Only during contes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838080" indent="-609480">
              <a:spcBef>
                <a:spcPts val="60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Only during sporadic-e ope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200160" y="4006800"/>
            <a:ext cx="251748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04640" y="1665360"/>
            <a:ext cx="82296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38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uestion 20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838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838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is the national FM calling frequency on the 902MHz band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838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838080" indent="-609480">
              <a:spcBef>
                <a:spcPts val="60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927.5MHz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838080" indent="-609480">
              <a:spcBef>
                <a:spcPts val="60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902.5MHz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838080" indent="-609480">
              <a:spcBef>
                <a:spcPts val="60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900.0MHz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838080" indent="-609480">
              <a:spcBef>
                <a:spcPts val="60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902.0MHz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200160" y="4006800"/>
            <a:ext cx="251748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404280" y="1665000"/>
            <a:ext cx="8077320" cy="49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38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uestion 21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838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838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is the resonant frequency of a parallel tuned circuit – consisting of a 68nF capacitor &amp; a 1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µH inductor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838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838080" indent="-609480">
              <a:spcBef>
                <a:spcPts val="60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Arial"/>
                <a:ea typeface="Arial"/>
              </a:rPr>
              <a:t>61Hz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838080" indent="-609480">
              <a:spcBef>
                <a:spcPts val="60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Arial"/>
                <a:ea typeface="Arial"/>
              </a:rPr>
              <a:t>61KHz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838080" indent="-609480">
              <a:spcBef>
                <a:spcPts val="60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Arial"/>
                <a:ea typeface="Arial"/>
              </a:rPr>
              <a:t>6.1MHz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838080" indent="-609480">
              <a:spcBef>
                <a:spcPts val="60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Arial"/>
                <a:ea typeface="Arial"/>
              </a:rPr>
              <a:t>61MHz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5307120" y="3430440"/>
            <a:ext cx="3543120" cy="31575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200160" y="4006800"/>
            <a:ext cx="251748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04640" y="1665360"/>
            <a:ext cx="82296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38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uestion 22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838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838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dar was first demonstrated at a frequency of 432 MHz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838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838080" indent="-609480">
              <a:spcBef>
                <a:spcPts val="60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Tru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838080" indent="-609480">
              <a:spcBef>
                <a:spcPts val="60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Fal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200160" y="4006800"/>
            <a:ext cx="251748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404640" y="1665360"/>
            <a:ext cx="82296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uestion 23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is the name of the book which comprises a collection of Ham Radio cartoons – written by Dick Sylvan (W9CBT)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914400" indent="-689040">
              <a:spcBef>
                <a:spcPts val="601"/>
              </a:spcBef>
              <a:buClr>
                <a:srgbClr val="ffffff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Tee He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 indent="-689040">
              <a:spcBef>
                <a:spcPts val="601"/>
              </a:spcBef>
              <a:buClr>
                <a:srgbClr val="ffffff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Ho Ho H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 indent="-689040">
              <a:spcBef>
                <a:spcPts val="601"/>
              </a:spcBef>
              <a:buClr>
                <a:srgbClr val="ffffff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Hi H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 indent="-689040">
              <a:spcBef>
                <a:spcPts val="601"/>
              </a:spcBef>
              <a:buClr>
                <a:srgbClr val="ffffff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He H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200160" y="4006800"/>
            <a:ext cx="251748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04640" y="1665360"/>
            <a:ext cx="82296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38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uestion 24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838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838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prefix is assigned to a US Ham requesting a reciprocal call-sign in Japa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838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838080" indent="-609480">
              <a:spcBef>
                <a:spcPts val="60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J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838080" indent="-609480">
              <a:spcBef>
                <a:spcPts val="60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7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838080" indent="-609480">
              <a:spcBef>
                <a:spcPts val="60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7J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838080" indent="-609480">
              <a:spcBef>
                <a:spcPts val="60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J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200160" y="4006800"/>
            <a:ext cx="251748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04640" y="1665360"/>
            <a:ext cx="82296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38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uestion 25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838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838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ich circuit component is typically operated in its reverse break-down regio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838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838080" indent="-609480">
              <a:spcBef>
                <a:spcPts val="60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Ceramic capacit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838080" indent="-609480">
              <a:spcBef>
                <a:spcPts val="60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Field-Effect transist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838080" indent="-609480">
              <a:spcBef>
                <a:spcPts val="60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Electrolytic capacit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838080" indent="-609480">
              <a:spcBef>
                <a:spcPts val="60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Zener diod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200160" y="4006800"/>
            <a:ext cx="251748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04640" y="1665360"/>
            <a:ext cx="82296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uestion 26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March 1973, where did the organizational meeting of the Escondido Amateur Radio Society take plac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onus question: What was the name of the first EARS club newsletter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200160" y="4006800"/>
            <a:ext cx="251748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404640" y="1665360"/>
            <a:ext cx="82296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38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uestion 27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838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838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is a “Wouff Hong”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838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838080" indent="-609480">
              <a:spcBef>
                <a:spcPts val="60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An exotic island coveted by DX Hound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838080" indent="-609480">
              <a:spcBef>
                <a:spcPts val="60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An instrument of torture to be used against bad operato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838080" indent="-609480">
              <a:spcBef>
                <a:spcPts val="60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A new digital mode invented in Chin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838080" indent="-609480">
              <a:spcBef>
                <a:spcPts val="60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A full-wave horizontal loop antenn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00160" y="4006800"/>
            <a:ext cx="251748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404640" y="1665360"/>
            <a:ext cx="82296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does the acronym EARS stand for in the following URL (WEB address)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66"/>
                </a:solidFill>
                <a:latin typeface="Arial"/>
              </a:rPr>
              <a:t>http://www.earsclub.c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200160" y="4006800"/>
            <a:ext cx="251748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395280" y="1655280"/>
            <a:ext cx="8515440" cy="478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38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uestion 28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838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838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the Emitter-Follower circuit below, what is the approximate value of V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ou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- given that T1 has an hFE of 10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838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838080" indent="-609480">
              <a:spcBef>
                <a:spcPts val="60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5 Vol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838080" indent="-609480">
              <a:spcBef>
                <a:spcPts val="60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50 Vol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838080" indent="-609480">
              <a:spcBef>
                <a:spcPts val="60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55 Vol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838080" indent="-609480">
              <a:spcBef>
                <a:spcPts val="60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56 Vol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5000760" y="3562200"/>
            <a:ext cx="3929040" cy="30956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200160" y="4006800"/>
            <a:ext cx="251748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04640" y="1665360"/>
            <a:ext cx="82296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38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uestion 29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838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838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year did the FCC take the General written test off of the Novice license test – leaving just the Novice written, and 5 wpm cod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838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838080" indent="-609480">
              <a:spcBef>
                <a:spcPts val="60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198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838080" indent="-609480">
              <a:spcBef>
                <a:spcPts val="60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18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838080" indent="-609480">
              <a:spcBef>
                <a:spcPts val="60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198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838080" indent="-609480">
              <a:spcBef>
                <a:spcPts val="60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198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00160" y="4006800"/>
            <a:ext cx="251748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04640" y="1665360"/>
            <a:ext cx="82296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38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uestion 30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838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838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ich of the below could a novice class control operator legally do in 1963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838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838080" indent="-609480">
              <a:spcBef>
                <a:spcPts val="60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Use CW with their VFO set to 3710KHz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838080" indent="-609480">
              <a:spcBef>
                <a:spcPts val="60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Use CW with a crystal for 7030KHz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838080" indent="-609480">
              <a:spcBef>
                <a:spcPts val="60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Use CW with their VFO set to 7070KHz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838080" indent="-609480">
              <a:spcBef>
                <a:spcPts val="60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Use AM phone with a crystal for 145.800MHz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200160" y="4006800"/>
            <a:ext cx="251748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04640" y="1665360"/>
            <a:ext cx="82296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38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uestion 31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838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838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is the approximate length of a half-wave dipole antenna for 7.05MHz – assuming a velocity factor of 0.95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838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838080" indent="-609480">
              <a:spcBef>
                <a:spcPts val="60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64’3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838080" indent="-609480">
              <a:spcBef>
                <a:spcPts val="60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66’9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838080" indent="-609480">
              <a:spcBef>
                <a:spcPts val="60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33’5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838080" indent="-609480">
              <a:spcBef>
                <a:spcPts val="60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133’6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200160" y="4006800"/>
            <a:ext cx="251748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04640" y="1665360"/>
            <a:ext cx="82296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38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uestion 32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838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838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oviet Radar that plagued the HF bands with QRM a number of years ago, was nicknamed th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838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838080" indent="-609480">
              <a:spcBef>
                <a:spcPts val="60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Quacking Duc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838080" indent="-609480">
              <a:spcBef>
                <a:spcPts val="60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Woodpec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838080" indent="-609480">
              <a:spcBef>
                <a:spcPts val="60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Funky Chick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838080" indent="-609480">
              <a:spcBef>
                <a:spcPts val="60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Chipmunk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04640" y="1665360"/>
            <a:ext cx="82296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uestion 33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ich UK TV detective show from the 80’s - features Morse code in its haunting musical scor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03440" y="37987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83664" fill="hold"/>
                                        <p:tgtEl>
                                          <p:spTgt spid="1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200160" y="4006800"/>
            <a:ext cx="251748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404640" y="1665360"/>
            <a:ext cx="82296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uestion 34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the following modulation diagram, what is meant by the acronym OFDM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2741760" y="3551400"/>
            <a:ext cx="6049800" cy="29257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04640" y="1665360"/>
            <a:ext cx="82296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uestion 35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what year was the Palomar Amateur Radio Club formed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914400" indent="-685800">
              <a:spcBef>
                <a:spcPts val="60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193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 indent="-685800">
              <a:spcBef>
                <a:spcPts val="60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193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 indent="-685800">
              <a:spcBef>
                <a:spcPts val="60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195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 indent="-685800">
              <a:spcBef>
                <a:spcPts val="60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195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 indent="-685800">
              <a:spcBef>
                <a:spcPts val="60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195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4305240" y="3343320"/>
            <a:ext cx="3029040" cy="30290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200160" y="4006800"/>
            <a:ext cx="251748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04640" y="1665360"/>
            <a:ext cx="82296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 many world-time-zones are ther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914400" indent="-685800">
              <a:spcBef>
                <a:spcPts val="60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2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 indent="-685800">
              <a:spcBef>
                <a:spcPts val="60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2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 indent="-685800">
              <a:spcBef>
                <a:spcPts val="60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2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 indent="-685800">
              <a:spcBef>
                <a:spcPts val="60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30+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200160" y="4006800"/>
            <a:ext cx="251748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04640" y="1665360"/>
            <a:ext cx="82296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was the name of the 2008 movie inspired by an extraordinary true event - a daring, unsolved robbery which took place more than 35 years ago in Lond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the movie - communications by the criminals are intercepted by a Radio Amateur who becomes involved in the attempt to catch them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200160" y="4006800"/>
            <a:ext cx="251748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04640" y="1665360"/>
            <a:ext cx="82296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38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838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838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ich of these prefixes are not in Africa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838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838080" indent="-609480">
              <a:spcBef>
                <a:spcPts val="60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5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838080" indent="-609480">
              <a:spcBef>
                <a:spcPts val="60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EA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838080" indent="-609480">
              <a:spcBef>
                <a:spcPts val="60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8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838080" indent="-609480">
              <a:spcBef>
                <a:spcPts val="60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Z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200160" y="4006800"/>
            <a:ext cx="251748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04640" y="1665360"/>
            <a:ext cx="82296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38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uestion 5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838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838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type of oscillator, using a hybrid of design techniques of both Armstrong &amp; Colpitts types exists, and has been dubbed the ‘Armpitt’ oscillato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838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838080" indent="-609480">
              <a:spcBef>
                <a:spcPts val="60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Tru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838080" indent="-609480">
              <a:spcBef>
                <a:spcPts val="60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Fal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200160" y="4006800"/>
            <a:ext cx="251748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04640" y="1665360"/>
            <a:ext cx="82296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uestion 6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exander Graham Bell – widely credited with the invention of the telephone was born in which country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onus question: Of which organization was he a founding member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200160" y="4006800"/>
            <a:ext cx="251748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04640" y="1665360"/>
            <a:ext cx="82296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38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uestion 7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838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838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what year was the ARRL founded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838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838080" indent="-609480">
              <a:spcBef>
                <a:spcPts val="60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190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838080" indent="-609480">
              <a:spcBef>
                <a:spcPts val="60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190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838080" indent="-609480">
              <a:spcBef>
                <a:spcPts val="60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191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838080" indent="-609480">
              <a:spcBef>
                <a:spcPts val="60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192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838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838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onus question: Who was the founder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3T18:41:35Z</dcterms:created>
  <dc:creator>Venner Steve</dc:creator>
  <dc:description/>
  <cp:keywords/>
  <dc:language>en-US</dc:language>
  <cp:lastModifiedBy>Stephen&amp;Gina</cp:lastModifiedBy>
  <cp:lastPrinted>1998-09-04T08:04:32Z</cp:lastPrinted>
  <dcterms:modified xsi:type="dcterms:W3CDTF">2008-06-12T06:17:51Z</dcterms:modified>
  <cp:revision>115</cp:revision>
  <dc:subject>Nokia PowerPoint template 2005</dc:subject>
  <dc:title>Slide 1</dc:title>
</cp:coreProperties>
</file>