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640" y="41637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168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708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952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464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708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952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168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4640" y="41637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168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708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952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4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708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952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168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457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71600" indent="-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057400" indent="-4572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7432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29000" indent="-457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29000" indent="-457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29000" indent="-457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401760" y="209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condido Amateur Radio Society Quiz Night -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457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71600" indent="-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057400" indent="-4572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7432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29000" indent="-457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29000" indent="-457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29000" indent="-457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4640" y="1544400"/>
            <a:ext cx="822960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xture of questions: historical, theoretical, operational, legal, factual, … Some multiple choice – others straight ans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asy, some tricky, some to trick you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ll in f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 questions – in about 30 minu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is electronic circu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High pass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Low pass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nd-pass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Pi-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-3db cut-off frequency of the filter if R is 1K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C is 0.001µ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C:\Documents and Settings\Gina Venner\My Documents\My Pictures\250px-1st_Order_Lowpass_Filter_RC_svg.png"/>
          <p:cNvPicPr/>
          <p:nvPr/>
        </p:nvPicPr>
        <p:blipFill>
          <a:blip r:embed="rId1"/>
          <a:stretch/>
        </p:blipFill>
        <p:spPr>
          <a:xfrm>
            <a:off x="5159520" y="2557440"/>
            <a:ext cx="3384360" cy="189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as the co-founder of the ARRL, in conjunction with Hiram Percy Maxim (W1AW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his call sig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control operator holding an Amateur Extra Class license, what are the 40m band limits imposed if they were operating under the CEPT reciprocal licensing agreement in ITU region 1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7.0 - 7.1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7.1 - 7.2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7.0 - 7.3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7.0 - 7.2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as the only amateur radio operator to operate from Tibet in the late 1950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Marshal Kim Seung-H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Robert F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orji Yanglo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Edmund Hill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04280" y="1665360"/>
            <a:ext cx="8520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ollowing logic diagram, what are the outputs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amp;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en the inputs are as show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0, Q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0, Q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1, Q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1, Q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logictest1.jpg"/>
          <p:cNvPicPr/>
          <p:nvPr/>
        </p:nvPicPr>
        <p:blipFill>
          <a:blip r:embed="rId1"/>
          <a:stretch/>
        </p:blipFill>
        <p:spPr>
          <a:xfrm>
            <a:off x="3691080" y="3548160"/>
            <a:ext cx="4992480" cy="288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SW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 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n SWL club of the 1930's.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 type of 3 element beam.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 3 tube receiver  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 triod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has owned or used the call sign WA3QI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avid Mirkin (TV / Film produc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Principal Seymour Skinner (The Simps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he Savant DX group (V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ll of the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pproximate frequency at which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-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following circuit, if L=100µH &amp; C =10p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.5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5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0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tuned cct.jpg"/>
          <p:cNvPicPr/>
          <p:nvPr/>
        </p:nvPicPr>
        <p:blipFill>
          <a:blip r:embed="rId1"/>
          <a:stretch/>
        </p:blipFill>
        <p:spPr>
          <a:xfrm>
            <a:off x="4851360" y="3657600"/>
            <a:ext cx="3413160" cy="220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30m band, the amateur station’s licensee must perform an RF environmental evaluation – if the power at the antenna exceed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30 Wa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315 Wa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425 Wa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485 Wa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DXCC countries spans over more than one continent, according to ham boundaries in the worl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lom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4640" y="1544400"/>
            <a:ext cx="822960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tep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a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se your team cap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se your team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houting out the ans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sking questions once the quiz has star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7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EARS NET question (Sunday 19</a:t>
            </a:r>
            <a:r>
              <a:rPr b="0" lang="en-US" sz="2400" spc="-1" strike="noStrike" baseline="30000">
                <a:solidFill>
                  <a:srgbClr val="ffc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April)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hat year was the transistor inve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e inventor(s) – 1 bonus point for e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9600" y="1665360"/>
            <a:ext cx="37432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8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ollowing circuit, what is the current flowing through R2, given that the hfe of T1 is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2.7µ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45.4µ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27µ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4.5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analog.bmp"/>
          <p:cNvPicPr/>
          <p:nvPr/>
        </p:nvPicPr>
        <p:blipFill>
          <a:blip r:embed="rId1"/>
          <a:stretch/>
        </p:blipFill>
        <p:spPr>
          <a:xfrm>
            <a:off x="4211640" y="1746360"/>
            <a:ext cx="4573440" cy="470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9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duce the level of harmonic interference produced by an HF transmitter, what should be placed in the feed-line between the radio, &amp; ATU / Antenn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A high-pass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A low-pass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A band-pass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A non-linear attenu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0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famous politician / professional pilot owned this call sig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VU2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loading coil in a mobile antenna do?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Makes the antenna electrically longer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dds inductive reactance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dds capacitive reactance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Reduces capacitive reac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aximum height of an antenna structure above ground level – before the owner is required to notify the FAA &amp; FC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58.32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59.85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60.96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61.73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y hunters know Texas has the most counties of any state... how many are there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dvantage of the PSK31 digital mode of transmiss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Every character is 5 data-bits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31.25 Kilo-baud data-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Less than 100Hz signal band 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All of the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is NOT a valid Q-cod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Q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Q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QR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Q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wo inductors are connected in series, the first is 22mH, and the second is 10mH… what is the total induct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6.9m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12.2m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16m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32m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inductors.JPG"/>
          <p:cNvPicPr/>
          <p:nvPr/>
        </p:nvPicPr>
        <p:blipFill>
          <a:blip r:embed="rId1"/>
          <a:stretch/>
        </p:blipFill>
        <p:spPr>
          <a:xfrm>
            <a:off x="4132440" y="3578400"/>
            <a:ext cx="4254480" cy="290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04640" y="1544400"/>
            <a:ext cx="822960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s for bonus question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questions before we begin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you ready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7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aximum transmitter power of a beacon st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50 Wa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100 Wa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150 Wa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200 Wat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8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which country does the call sign HB0ASW belo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Switzerl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ust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ndor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Liechte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9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simple super-heterodyne SSB receiver, one input to the mixer stage is the amplified received signal. What is the other inpu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he Carrier Oscil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he B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he Local Oscillator (L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Jay 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0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Rettysnit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 fictional torture device for bad h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n early type of lightning arre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 unique antenna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Someone who calls the FC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04640" y="1269720"/>
            <a:ext cx="828864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national SSB calling frequency on the 1.25m 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222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22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223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223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national FM calling frequency for the same 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c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EARS NET question (Sunday 10</a:t>
            </a:r>
            <a:r>
              <a:rPr b="0" lang="en-US" sz="2400" spc="-1" strike="noStrike" baseline="30000">
                <a:solidFill>
                  <a:srgbClr val="ffc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May)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2 input exclusive NOR gate – If input A is a logic 1, and input B is a logic 0 – what is the output 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ter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xnor.bmp"/>
          <p:cNvPicPr/>
          <p:nvPr/>
        </p:nvPicPr>
        <p:blipFill>
          <a:blip r:embed="rId1"/>
          <a:stretch/>
        </p:blipFill>
        <p:spPr>
          <a:xfrm>
            <a:off x="4567320" y="4135320"/>
            <a:ext cx="3798720" cy="201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65548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as the first ‘Ham’ astronaut to operate from spa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Owen Garriott, W5LF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John Phillips, KE5D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Mike Barratt, KD5M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John Grunsfeld, KC5Z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as the first ‘Ham’ in spa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160328main_420x374.jpg"/>
          <p:cNvPicPr/>
          <p:nvPr/>
        </p:nvPicPr>
        <p:blipFill>
          <a:blip r:embed="rId1"/>
          <a:stretch/>
        </p:blipFill>
        <p:spPr>
          <a:xfrm>
            <a:off x="7313760" y="4025880"/>
            <a:ext cx="1143000" cy="1211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g.jpg"/>
          <p:cNvPicPr/>
          <p:nvPr/>
        </p:nvPicPr>
        <p:blipFill>
          <a:blip r:embed="rId2"/>
          <a:stretch/>
        </p:blipFill>
        <p:spPr>
          <a:xfrm>
            <a:off x="7315200" y="5364000"/>
            <a:ext cx="1143000" cy="1265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phillips-thumbnail.jpg"/>
          <p:cNvPicPr/>
          <p:nvPr/>
        </p:nvPicPr>
        <p:blipFill>
          <a:blip r:embed="rId3"/>
          <a:stretch/>
        </p:blipFill>
        <p:spPr>
          <a:xfrm>
            <a:off x="7300800" y="2484360"/>
            <a:ext cx="1143000" cy="1409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garriott.jpg"/>
          <p:cNvPicPr/>
          <p:nvPr/>
        </p:nvPicPr>
        <p:blipFill>
          <a:blip r:embed="rId4"/>
          <a:stretch/>
        </p:blipFill>
        <p:spPr>
          <a:xfrm>
            <a:off x="7300800" y="985680"/>
            <a:ext cx="1143000" cy="138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pecial Event call sign of the USS Midway radio clu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N6I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NI6W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NI6I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N6I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04280" y="1665360"/>
            <a:ext cx="48769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hat year was the Fallbrook Amateur Radio Club foun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original name of the clu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farcTrLg.gif"/>
          <p:cNvPicPr/>
          <p:nvPr/>
        </p:nvPicPr>
        <p:blipFill>
          <a:blip r:embed="rId1"/>
          <a:stretch/>
        </p:blipFill>
        <p:spPr>
          <a:xfrm>
            <a:off x="5803920" y="1461960"/>
            <a:ext cx="2857320" cy="248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55720" y="3084480"/>
            <a:ext cx="51912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acronym EARS stand for in the following URL (WEB address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http://www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rs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lub.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c000"/>
                </a:solidFill>
                <a:latin typeface="Arial"/>
              </a:rPr>
              <a:t>st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ARS NET question (Sunday 15</a:t>
            </a:r>
            <a:r>
              <a:rPr b="0" lang="en-US" sz="2400" spc="-1" strike="noStrike" baseline="30000">
                <a:solidFill>
                  <a:srgbClr val="ffc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March)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Duane Dibbl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name of the actor who plays hi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49183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lectronic component does the following circuit symbol repres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 Light Emitting Diode (L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 Photodi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 Varactor (Varicap Di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 Zener Di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zener.gif"/>
          <p:cNvPicPr/>
          <p:nvPr/>
        </p:nvPicPr>
        <p:blipFill>
          <a:blip r:embed="rId1"/>
          <a:stretch/>
        </p:blipFill>
        <p:spPr>
          <a:xfrm>
            <a:off x="5808600" y="2560680"/>
            <a:ext cx="2571840" cy="55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would not be an insula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Viny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Rub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Graph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inary representation of a famous call sign in ASC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1010111  00110001  01000010  011101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call sig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95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call sign regions meet at the Four Corners of UT, AZ, CO, and N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spcBef>
                <a:spcPts val="601"/>
              </a:spcBef>
              <a:buClr>
                <a:srgbClr val="66ff33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8:41:35Z</dcterms:created>
  <dc:creator>Venner Steve</dc:creator>
  <dc:description/>
  <dc:language>en-US</dc:language>
  <cp:lastModifiedBy>User name placeholder</cp:lastModifiedBy>
  <cp:lastPrinted>1998-09-04T08:04:32Z</cp:lastPrinted>
  <dcterms:modified xsi:type="dcterms:W3CDTF">2009-05-14T18:17:29Z</dcterms:modified>
  <cp:revision>289</cp:revision>
  <dc:subject>Nokia PowerPoint template 2005</dc:subject>
  <dc:title>Slide 1</dc:title>
</cp:coreProperties>
</file>