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jpeg" ContentType="image/jpeg"/>
  <Override PartName="/ppt/media/image27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33F-4DA6-4240-BEAA-93E930F9F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2E6B-16FB-4E2F-BD85-CCE93899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907-E52A-4F11-8EBB-C49784E8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B7D-DA4B-4D92-9869-48C1821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A62-B52C-4AF3-880F-ECC4DC7D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BE4-9C18-443B-88A9-E8B518A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D54-EEC7-4990-BB69-476B0B66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9F22-5651-4F31-A787-BF14DB99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191-CC45-41E8-8326-526C33B8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0A13-08FB-4A88-9B03-0185E5C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0598-E8F4-4EC7-8946-DCE1CCAD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F776-AE80-4875-9272-EE844003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274-ED5D-4075-BA2E-A687143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7B6-DE8C-4CF2-B46D-B0ABC15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D240-6C76-4BF3-8D2D-86AB438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576B-FCB6-4B4F-B20D-56C57DC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42F-C6FA-4E9D-AC2C-13621BE6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4E9D-3BCB-4872-A333-876E8A22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4476-2E08-4CD1-B4F0-C8C9493C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37BF-F66B-4E8B-B3C2-F19DFF4A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7855-7D5B-4E9B-A75E-83848DAB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5901-C09A-43C0-AA0D-934EA7B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D717-639B-4469-8702-54F64ED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3F8B-959B-48DA-B0D1-9750902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B0D-7BFB-44F7-823A-412477D5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803C-2A97-4EDF-B5B3-607E58D5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EC8E-9418-4650-BD7E-635C1F1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057C-C930-4CEE-9B35-016146E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06A9-E1B1-4D2C-B5C8-070F2DA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7AE2-0123-44D7-8CD0-D99692B9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1A7F-155C-4317-B6D6-8164E9B2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FDC2-049A-4CAA-B581-4B07216E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60E7-D8AC-4E8B-9BE3-DA21575A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2132-CE84-4266-9205-CE9FFFAC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0322-A0CE-4F31-9375-549AE9E7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A6B-E3A6-4EAC-8639-FF80BB5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1167-948F-4642-B240-02C4D542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6A8F-AB2F-4DBF-8762-FFF9429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C319-1AE2-43E1-9816-CC885078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2A58-4E0E-4F30-8016-5CED3DE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295B-DBE5-4043-9616-441A20E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2095-A217-40D2-B750-05EEC42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2389-E577-4376-AEED-D472A1F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AC68-74EC-4B0A-9C74-90D8E456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722B-36C2-4D5C-8286-18915E8D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76F0-E1F8-479B-AF9C-892F5A1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CC2-EB77-46DE-A7BD-8870329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454F7-8591-44FF-857B-6A3759B7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91469-0D06-4F3A-8716-3E565FA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7659-303B-4289-8D8C-328C04C2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E402-DC06-44FC-9C9D-67D20299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4032-FCFE-4222-9AAA-0B1AD1D8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83E2B-2EAE-43EC-97D9-448F51A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1005-417E-41AB-AAD6-07ED624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0B6E-FA81-4394-BE10-40CB0E7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0FF6-E07E-454A-96F4-C904E85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C6BAF-9F8D-4B63-B5FC-22397774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CB2-93DF-493B-8D82-C00459C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E14A-D010-47F3-8C40-BBDCCE48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730-3D03-46AA-AC97-0361CD2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DF4-DFA6-43B7-8616-B1C475F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389-85E1-4D58-8A0F-4DFC28D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6CB5-E253-4A3F-B95D-28650B2A137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BC01-014C-4809-8C17-3A458C29762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718-1747-4C14-8D28-ACB32B1CB5A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F7D3-00FF-43DB-B2A5-111BC5BA386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11EC-7587-4536-9DA7-AAC5270C876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6400"/>
                </a:solidFill>
                <a:latin typeface="Arial"/>
                <a:ea typeface="Arial"/>
              </a:rPr>
              <a:t>EARS Quiz Night 2010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Arial"/>
                <a:ea typeface="Arial"/>
              </a:rPr>
              <a:t>By Steve Venner (W6T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EARS Logo.jpg"/>
          <p:cNvPicPr/>
          <p:nvPr/>
        </p:nvPicPr>
        <p:blipFill>
          <a:blip r:embed="rId1"/>
          <a:stretch/>
        </p:blipFill>
        <p:spPr>
          <a:xfrm>
            <a:off x="533520" y="4648320"/>
            <a:ext cx="17222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ype of oscillator, using a hybrid of design techniques of both Armstrong &amp; Colpitts types exists, and has been dubbed the ‘Armpitt’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50px-TICKLER_svg.png"/>
          <p:cNvPicPr/>
          <p:nvPr/>
        </p:nvPicPr>
        <p:blipFill>
          <a:blip r:embed="rId2"/>
          <a:stretch/>
        </p:blipFill>
        <p:spPr>
          <a:xfrm>
            <a:off x="2590920" y="3962520"/>
            <a:ext cx="2381040" cy="1428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130px-Cc_colp2_svg.png"/>
          <p:cNvPicPr/>
          <p:nvPr/>
        </p:nvPicPr>
        <p:blipFill>
          <a:blip r:embed="rId3"/>
          <a:stretch/>
        </p:blipFill>
        <p:spPr>
          <a:xfrm>
            <a:off x="5181480" y="3733920"/>
            <a:ext cx="1238400" cy="1933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9"/>
          <p:cNvSpPr/>
          <p:nvPr/>
        </p:nvSpPr>
        <p:spPr>
          <a:xfrm>
            <a:off x="457200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670572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qm.jpg"/>
          <p:cNvPicPr/>
          <p:nvPr/>
        </p:nvPicPr>
        <p:blipFill>
          <a:blip r:embed="rId4"/>
          <a:stretch/>
        </p:blipFill>
        <p:spPr>
          <a:xfrm>
            <a:off x="7238880" y="4191120"/>
            <a:ext cx="914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57200" y="1828800"/>
            <a:ext cx="822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365a"/>
                </a:solidFill>
                <a:latin typeface="Arial"/>
              </a:rPr>
              <a:t>The land area of which DXCC entities border on, or touch, the geographic North P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anada - VE, entity code 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uropean Russia – UA, entity code 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siatic Russia – UA, entity code 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Greenland – OX, entity code 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57200" y="182880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te Rajiv Gandhi (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me Minister of India) owned the call-sign VU2RG. His widow is Sonia Gandhi… What is her call-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U2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re was she bo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o currently owns VU2R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vu2rg.jpg"/>
          <p:cNvPicPr/>
          <p:nvPr/>
        </p:nvPicPr>
        <p:blipFill>
          <a:blip r:embed="rId2"/>
          <a:stretch/>
        </p:blipFill>
        <p:spPr>
          <a:xfrm>
            <a:off x="5278320" y="3505320"/>
            <a:ext cx="3256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57200" y="1828800"/>
            <a:ext cx="3048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circuit, what is the total resistance between points A &amp; 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5 Volts DC is applied to the circuit, what is the current flowing through R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Drawing1.jpg"/>
          <p:cNvPicPr/>
          <p:nvPr/>
        </p:nvPicPr>
        <p:blipFill>
          <a:blip r:embed="rId2"/>
          <a:stretch/>
        </p:blipFill>
        <p:spPr>
          <a:xfrm>
            <a:off x="3505320" y="1981080"/>
            <a:ext cx="51102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457200" y="182880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Q codes were created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09, by the British government  for maritime use. What query did QRG repre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your true be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re are you boun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line do you belo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ship or coast station i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ed in ham radio - QRG is now a query about what operating paramet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457200" y="1828800"/>
            <a:ext cx="82296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Technician class question p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hat conditions are amateur stations allowed to communicate with stations operating in other radio servi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other radio services make contact with amateur s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authorized by the F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communicating with stations in the Family Radio Ser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en commercial broadcast stations are off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57200" y="182880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binary representation of a ‘famous’ call sign in ASC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01110111    00110110    01010100    01100001    0100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all 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discrete circuit is equivalent to which logic 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N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OR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NOR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-input Exclusive NOR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desc_nor.jpg"/>
          <p:cNvPicPr/>
          <p:nvPr/>
        </p:nvPicPr>
        <p:blipFill>
          <a:blip r:embed="rId2"/>
          <a:stretch/>
        </p:blipFill>
        <p:spPr>
          <a:xfrm>
            <a:off x="4800600" y="2914560"/>
            <a:ext cx="38275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57200" y="1828800"/>
            <a:ext cx="82296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esting, what technique of operating does the term 'S&amp;P' refer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uning a band looking for QSO'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Finding a frequency and holding it as long 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hanging the antennas (Switch &amp; Polarity) - vert to ho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57200" y="1828800"/>
            <a:ext cx="82296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XCC entity separates Kure Island (KH7K) from Hawaii (KH6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Midway A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Pearl &amp; Hermes A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Lisianski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Laysan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Content Placeholder 2"/>
          <p:cNvSpPr/>
          <p:nvPr/>
        </p:nvSpPr>
        <p:spPr>
          <a:xfrm>
            <a:off x="457200" y="1828800"/>
            <a:ext cx="818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Welcome to the EARS quiz night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A mixture of questions: historical, theoretical, operational, geographical, factu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Some multiple choice – others straight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Some easy, some tricky, some to tric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buClr>
                <a:srgbClr val="3b643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But all in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1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35 questions – in about 30-4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457200" y="18288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year, was the first telegraph message 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8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en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365a"/>
                </a:solidFill>
                <a:latin typeface="Arial"/>
              </a:rPr>
              <a:t>This famed Soviet explorer held the call-sign: RA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365a"/>
                </a:solidFill>
                <a:latin typeface="Arial"/>
              </a:rPr>
              <a:t>What was his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Kris Kren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rnst Kren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oris Zem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Vladimir Spitz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our capacitors are connected in parallel, two of which are 10µF, and two are 1µF, what is the total capacitanc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455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455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1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2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aps_ser1.jpg"/>
          <p:cNvPicPr/>
          <p:nvPr/>
        </p:nvPicPr>
        <p:blipFill>
          <a:blip r:embed="rId2"/>
          <a:stretch/>
        </p:blipFill>
        <p:spPr>
          <a:xfrm>
            <a:off x="2852640" y="3581280"/>
            <a:ext cx="566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457200" y="1828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insert a simple SWR meter in your coaxial feed line, and it indicates an SWR of 4:1, the SWR meter is indicating your antenna efficiency.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Fal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imagesCANQPQX3.jpg"/>
          <p:cNvPicPr/>
          <p:nvPr/>
        </p:nvPicPr>
        <p:blipFill>
          <a:blip r:embed="rId2"/>
          <a:stretch/>
        </p:blipFill>
        <p:spPr>
          <a:xfrm>
            <a:off x="5638680" y="3581280"/>
            <a:ext cx="281952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57200" y="1828800"/>
            <a:ext cx="82296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General class question p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ximum transmitting power a General class licensee may use when operating between 7025 and 7125 kHz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0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000 watts PEP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457200" y="1828800"/>
            <a:ext cx="54864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atellite monitors the Sun from a stationary position between the Earth &amp;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Uly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ass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O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me of that stationary pos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175799main_soho_solar_heart.jpg"/>
          <p:cNvPicPr/>
          <p:nvPr/>
        </p:nvPicPr>
        <p:blipFill>
          <a:blip r:embed="rId2"/>
          <a:stretch/>
        </p:blipFill>
        <p:spPr>
          <a:xfrm>
            <a:off x="5961240" y="2209680"/>
            <a:ext cx="2662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57200" y="1828800"/>
            <a:ext cx="43434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ircuit on the right, what is the approximate power dissipated in R2, given that the hfe of T1 is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2.0µ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13.6µ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.1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.2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analog.bmp"/>
          <p:cNvPicPr/>
          <p:nvPr/>
        </p:nvPicPr>
        <p:blipFill>
          <a:blip r:embed="rId2"/>
          <a:stretch/>
        </p:blipFill>
        <p:spPr>
          <a:xfrm>
            <a:off x="4867200" y="1828800"/>
            <a:ext cx="3722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57200" y="182880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Arial"/>
              </a:rPr>
              <a:t>Question 2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DXCC entity extends the furthest N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J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KL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" y="1828800"/>
            <a:ext cx="8229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/was required to qualify for the Elser-Mathes C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e at the very top of the DXCC Honor Ro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et a new CW receiving speed rec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ve made the first trans-Pacific amateur 2-way Q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ve the first amateur 2-way QSO between the Earth and 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times has it been awar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457200" y="18288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utputs Q1, Q2 &amp; Q3 on the logic circuit below, given that the inputs are A=1, B=0, C=1 &amp; D=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0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0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1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0, Q2=1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0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0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1, Q3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Q1=1, Q2=1, Q3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logictest1.jpg"/>
          <p:cNvPicPr/>
          <p:nvPr/>
        </p:nvPicPr>
        <p:blipFill>
          <a:blip r:embed="rId2"/>
          <a:stretch/>
        </p:blipFill>
        <p:spPr>
          <a:xfrm>
            <a:off x="3448080" y="3124080"/>
            <a:ext cx="5135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2"/>
          <p:cNvSpPr/>
          <p:nvPr/>
        </p:nvSpPr>
        <p:spPr>
          <a:xfrm>
            <a:off x="457200" y="1828800"/>
            <a:ext cx="818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1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57200" y="1828800"/>
            <a:ext cx="8229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First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Form a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Choose your team cap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3240"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Choose your team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l ‘Q’ code QLF refers to what type of signal de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pl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h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Poor CW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um or Buz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57200" y="1828800"/>
            <a:ext cx="47242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pproximate resonant frequenc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the tuned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9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.59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.9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59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at the circuit has a Q of 100, what  is the -3db band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tuned_cct.jpg"/>
          <p:cNvPicPr/>
          <p:nvPr/>
        </p:nvPicPr>
        <p:blipFill>
          <a:blip r:embed="rId2"/>
          <a:stretch/>
        </p:blipFill>
        <p:spPr>
          <a:xfrm>
            <a:off x="5410080" y="1951200"/>
            <a:ext cx="31417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57200" y="1828800"/>
            <a:ext cx="82296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Extra class question p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Forward Error Correction implement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the receiving station repeating each block of three data charac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transmitting a special algorithm to the receiving station along with the data charac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transmitting extra data that may be used to detect and correct transmission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y varying the frequency shift of the transmitted signal according to a predefined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57200" y="1828800"/>
            <a:ext cx="82296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ne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9, PI9CAM at the Dwingeloo radio telescope in the Netherlands made a successful EME contact to Australia on 23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minimum power used during the conta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0 µ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 m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6431"/>
                </a:solidFill>
                <a:latin typeface="Arial"/>
              </a:rPr>
              <a:t>3 K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in of the 23cm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46.2dBd, what was the ER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IMG_1063_small.jpg"/>
          <p:cNvPicPr/>
          <p:nvPr/>
        </p:nvPicPr>
        <p:blipFill>
          <a:blip r:embed="rId2"/>
          <a:stretch/>
        </p:blipFill>
        <p:spPr>
          <a:xfrm>
            <a:off x="5105520" y="3479760"/>
            <a:ext cx="34653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57200" y="1828800"/>
            <a:ext cx="49528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me of the Op-Amp circ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 non-invert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n invert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 voltage fol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A unity gain buffer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opampinv.gif"/>
          <p:cNvPicPr/>
          <p:nvPr/>
        </p:nvPicPr>
        <p:blipFill>
          <a:blip r:embed="rId2"/>
          <a:stretch/>
        </p:blipFill>
        <p:spPr>
          <a:xfrm>
            <a:off x="4952880" y="1905120"/>
            <a:ext cx="3586320" cy="24382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457200" y="4648320"/>
            <a:ext cx="82296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0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at is the output voltage if the input voltage is 1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hophone line of radios was produced by which manufactur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Eicho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llicrafters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Gonset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ammerl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57200" y="182880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rote a play, with a title which contains 2 of the names in the International Phonetic Alphab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illiam Shakespe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Neal Simon.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Oscar Wilde.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Robert Fr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ame the 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me the British rock-band who had a song with the sam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57200" y="1828800"/>
            <a:ext cx="32004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cific Island is home to 3 DXCC ent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e 3 entities (1 point for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oceania-map.jpg"/>
          <p:cNvPicPr/>
          <p:nvPr/>
        </p:nvPicPr>
        <p:blipFill>
          <a:blip r:embed="rId2"/>
          <a:stretch/>
        </p:blipFill>
        <p:spPr>
          <a:xfrm>
            <a:off x="3657600" y="2438280"/>
            <a:ext cx="49132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57200" y="1828800"/>
            <a:ext cx="822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must we wait for a Sunspot to reappear after disappearing around the limb of the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88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3.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27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11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imagesCAPI1E13.jpg"/>
          <p:cNvPicPr/>
          <p:nvPr/>
        </p:nvPicPr>
        <p:blipFill>
          <a:blip r:embed="rId2"/>
          <a:stretch/>
        </p:blipFill>
        <p:spPr>
          <a:xfrm>
            <a:off x="6095880" y="32767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imagesss.jpg"/>
          <p:cNvPicPr/>
          <p:nvPr/>
        </p:nvPicPr>
        <p:blipFill>
          <a:blip r:embed="rId3"/>
          <a:stretch/>
        </p:blipFill>
        <p:spPr>
          <a:xfrm>
            <a:off x="4038480" y="38098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57200" y="1828800"/>
            <a:ext cx="8229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ygone days, all Soviet hams would ask you to QSL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he Krem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he Politbu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Box 88, Mosc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ib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457200" y="1828800"/>
            <a:ext cx="8229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685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Before we begin – A few ‘rule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No shouting out the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85800"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</a:rPr>
              <a:t>No asking questions once the quiz ha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d / listen to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 the question as as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  <a:ea typeface="Arial"/>
              </a:rPr>
              <a:t>Points for bonu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  <a:ea typeface="Arial"/>
              </a:rPr>
              <a:t>No web-browsing with cell phones / PDA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urn off cell phones – pleas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63680">
              <a:lnSpc>
                <a:spcPct val="100000"/>
              </a:lnSpc>
              <a:buClr>
                <a:srgbClr val="3b643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6431"/>
                </a:solidFill>
                <a:latin typeface="Arial"/>
                <a:ea typeface="Arial"/>
              </a:rPr>
              <a:t>Any questions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457200" y="18288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Arial"/>
              </a:rPr>
              <a:t>Question 3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The organizational meeting of EARS was held on March 12, 1973, in Room 60 of the Escondido High Scho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as the first club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Arial"/>
              </a:rPr>
              <a:t>Bonus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his/her call-sig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omepage.jpg"/>
          <p:cNvPicPr/>
          <p:nvPr/>
        </p:nvPicPr>
        <p:blipFill>
          <a:blip r:embed="rId2"/>
          <a:stretch/>
        </p:blipFill>
        <p:spPr>
          <a:xfrm>
            <a:off x="5195880" y="3657600"/>
            <a:ext cx="33386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57200" y="28954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00"/>
                </a:solidFill>
                <a:latin typeface="Arial"/>
              </a:rPr>
              <a:t>The end… alm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57200" y="28954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00"/>
                </a:solidFill>
                <a:latin typeface="Arial"/>
              </a:rPr>
              <a:t>Are you ready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33520" y="1828800"/>
            <a:ext cx="7467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acronym PARC stand for in the following URL (WEB addres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http://www.par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0018-0503-1607-5755_symbols_and_signs_the_world_wide_web_internet.jpg"/>
          <p:cNvPicPr/>
          <p:nvPr/>
        </p:nvPicPr>
        <p:blipFill>
          <a:blip r:embed="rId2"/>
          <a:stretch/>
        </p:blipFill>
        <p:spPr>
          <a:xfrm>
            <a:off x="5562720" y="3038400"/>
            <a:ext cx="3012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57200" y="1828800"/>
            <a:ext cx="822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c3e"/>
                </a:solidFill>
                <a:latin typeface="Arial"/>
              </a:rPr>
              <a:t>If the US has the ARRL, the UK has the RSGB and Finland has the SR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2c3e"/>
                </a:solidFill>
                <a:latin typeface="Arial"/>
              </a:rPr>
              <a:t>Which country is associated with the ORAR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c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arrl.jpg"/>
          <p:cNvPicPr/>
          <p:nvPr/>
        </p:nvPicPr>
        <p:blipFill>
          <a:blip r:embed="rId2"/>
          <a:stretch/>
        </p:blipFill>
        <p:spPr>
          <a:xfrm>
            <a:off x="3276720" y="4038480"/>
            <a:ext cx="761760" cy="158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rsgb_banner.gif"/>
          <p:cNvPicPr/>
          <p:nvPr/>
        </p:nvPicPr>
        <p:blipFill>
          <a:blip r:embed="rId3"/>
          <a:stretch/>
        </p:blipFill>
        <p:spPr>
          <a:xfrm>
            <a:off x="4191120" y="4038480"/>
            <a:ext cx="761760" cy="1587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sraltop.jpg"/>
          <p:cNvPicPr/>
          <p:nvPr/>
        </p:nvPicPr>
        <p:blipFill>
          <a:blip r:embed="rId4"/>
          <a:stretch/>
        </p:blipFill>
        <p:spPr>
          <a:xfrm>
            <a:off x="5105520" y="4038480"/>
            <a:ext cx="761760" cy="156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90px-ORARI_logo.png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200" y="1828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in-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this compon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its valu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What is its toleranc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mres.jpg"/>
          <p:cNvPicPr/>
          <p:nvPr/>
        </p:nvPicPr>
        <p:blipFill>
          <a:blip r:embed="rId2"/>
          <a:stretch/>
        </p:blipFill>
        <p:spPr>
          <a:xfrm>
            <a:off x="838080" y="4191120"/>
            <a:ext cx="75582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6"/>
          <p:cNvSpPr/>
          <p:nvPr/>
        </p:nvSpPr>
        <p:spPr>
          <a:xfrm>
            <a:off x="1447920" y="83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400"/>
                </a:solidFill>
                <a:latin typeface="Arial"/>
              </a:rPr>
              <a:t>EARS Quiz Night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1828800"/>
            <a:ext cx="72388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2c3e"/>
                </a:solidFill>
                <a:latin typeface="Arial"/>
              </a:rPr>
              <a:t>Question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ere the first people to observe and record the presence of sun-spots 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Sume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I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Octogen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buClr>
                <a:srgbClr val="3b643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6431"/>
                </a:solidFill>
                <a:latin typeface="Arial"/>
              </a:rPr>
              <a:t>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EARS Logo.jpg"/>
          <p:cNvPicPr/>
          <p:nvPr/>
        </p:nvPicPr>
        <p:blipFill>
          <a:blip r:embed="rId1"/>
          <a:stretch/>
        </p:blipFill>
        <p:spPr>
          <a:xfrm>
            <a:off x="457200" y="601992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imagesCAPI1E13.jpg"/>
          <p:cNvPicPr/>
          <p:nvPr/>
        </p:nvPicPr>
        <p:blipFill>
          <a:blip r:embed="rId2"/>
          <a:stretch/>
        </p:blipFill>
        <p:spPr>
          <a:xfrm>
            <a:off x="6095880" y="32767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imagesss.jpg"/>
          <p:cNvPicPr/>
          <p:nvPr/>
        </p:nvPicPr>
        <p:blipFill>
          <a:blip r:embed="rId3"/>
          <a:stretch/>
        </p:blipFill>
        <p:spPr>
          <a:xfrm>
            <a:off x="4038480" y="38098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3:21:32Z</dcterms:created>
  <dc:creator>Stephen&amp;Gina</dc:creator>
  <dc:description/>
  <dc:language>en-US</dc:language>
  <cp:lastModifiedBy> </cp:lastModifiedBy>
  <dcterms:modified xsi:type="dcterms:W3CDTF">2010-03-16T18:09:26Z</dcterms:modified>
  <cp:revision>359</cp:revision>
  <dc:subject/>
  <dc:title>Dxing 101</dc:title>
</cp:coreProperties>
</file>