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9.jpeg" ContentType="image/jpeg"/>
  <Override PartName="/ppt/media/image27.png" ContentType="image/pn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CB33-A33D-4F11-9045-12F5301C5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F510-4DF4-4343-9158-144C6714B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431-436F-4857-A3F5-4901DCBF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44C9-2CAE-47EB-9634-861B443F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ECF-776C-4EC2-9B46-82B5B283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319-B300-4335-8218-B576552E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BC00-F3CB-4A20-A7B7-366A9C37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A86E-1131-4B52-B7F5-0A61574D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96C1-E68D-44C0-AAB1-73CAB050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208A-048B-49EB-A00A-EF136B46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7727-74C9-49E0-9B88-210562D8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D52F-0A25-4FFB-A2F6-65EF05E3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3900-13DE-48AB-A4D5-EAA30502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B7E6-1D4B-4855-8A1A-45310EBA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B42C-E812-4055-90C5-21E93BD1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EC48-884D-420E-8AE6-A5490674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2369-1544-471A-A4A2-783A8698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7702-3F00-4C07-87E9-C1580D08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5C7B-A790-48F6-AAE5-8DE21076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A1B3A-4727-4AF3-A737-6BA9DDA3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CB4F5-5257-495C-9D54-EC010EFD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FE2B9-5CBC-4660-BEFD-A0A91FB8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08313-5651-4F8B-A8C8-F686B7BA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A31A6-D069-45EC-8064-ADF4EB78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3D1-2E7D-43CB-813F-D3C929A2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3CA8C-2F5A-4067-B7DB-730BA312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641AC-9D57-4E3A-88A0-7190652E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4350D-4435-4372-B051-ABE41C65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5EB44-405A-46A3-AE25-AB074549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820C3-259D-4FDC-8DE9-2C73E6AE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46255-9089-4C33-AAA0-8C6AD9B1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2CD10-1C7E-4FA6-996A-CE63B128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556DC-2985-4E9D-B4FB-49168086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1FD4E-60EC-475C-A325-1DD18A5D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63D72-1E27-406D-8F2B-3F2CF743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AD5-45C0-4C22-956F-51CCDC52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20505-946C-4203-820B-ED1C0ADE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15254-7DC7-4D38-B8CA-C9A66765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BAE53-D4F1-44D6-9A77-91D360B4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F5812-9F24-493F-970A-0443853A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6F90A-9ECB-4C0C-92D3-A6A1C6F8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FD135-C8A4-46AC-B617-319E90AB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EC09F-CD67-4354-9DC4-65A564F6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34EF6-B394-47D4-BA97-72D2EDD1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4D04E-AEDF-4E31-9660-762EB44A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BCBA5-9C5E-47DC-8D31-B208B119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8233-EE51-44A8-BCF5-737FD0AC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6F2AE-7041-420D-A514-5C042349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61773-9185-4961-9D57-49F52E60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160B1-ED9F-4324-A1F0-6951AC6E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941FB-88F1-4056-A5AD-D80F7E15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0102D-6126-406F-A96C-888311C7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36AC3-1EF2-4E18-80B3-51C74AFC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3ADA8-A535-417A-9BC7-FF79BA10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8B138-AEBD-4CA6-9C20-B6D7FD42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B5116-87DB-4E38-8B16-72B09814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012FA-E0E8-4158-8276-D1A79F06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AC8-E357-48EF-AC17-E65DEDB9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BCBCB-AAC1-44D2-80EB-F22F914E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E083-C257-4C78-97B4-ACC0FD22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2C3-F5CE-45AA-9710-6F7649C4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6440-BD81-4D64-8C17-0341BC1E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7A52-7324-426B-8F59-732B51A610A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BA55-7EA7-4443-A89A-E367DA9C96E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4F1B-983A-405C-8731-5A3EBD60FA9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D63E-5DD1-424B-82A8-92091123899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BFD5-8DC6-4291-9545-D0F9E6257BE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6400"/>
                </a:solidFill>
                <a:latin typeface="Arial"/>
                <a:ea typeface="Arial"/>
              </a:rPr>
              <a:t>EARS Quiz Night 2010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Arial"/>
                <a:ea typeface="Arial"/>
              </a:rPr>
              <a:t>By Steve Venner (W6T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5" descr="EARS Logo.jpg"/>
          <p:cNvPicPr/>
          <p:nvPr/>
        </p:nvPicPr>
        <p:blipFill>
          <a:blip r:embed="rId1"/>
          <a:stretch/>
        </p:blipFill>
        <p:spPr>
          <a:xfrm>
            <a:off x="533520" y="4648320"/>
            <a:ext cx="172224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457200" y="1828800"/>
            <a:ext cx="82296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type of oscillator, using a hybrid of design techniques of both Armstrong &amp; Colpitts types exists, and has been dubbed the ‘Armpitt’ oscill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250px-TICKLER_svg.png"/>
          <p:cNvPicPr/>
          <p:nvPr/>
        </p:nvPicPr>
        <p:blipFill>
          <a:blip r:embed="rId2"/>
          <a:stretch/>
        </p:blipFill>
        <p:spPr>
          <a:xfrm>
            <a:off x="2590920" y="3962520"/>
            <a:ext cx="2381040" cy="1428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130px-Cc_colp2_svg.png"/>
          <p:cNvPicPr/>
          <p:nvPr/>
        </p:nvPicPr>
        <p:blipFill>
          <a:blip r:embed="rId3"/>
          <a:stretch/>
        </p:blipFill>
        <p:spPr>
          <a:xfrm>
            <a:off x="5181480" y="3733920"/>
            <a:ext cx="1238400" cy="1933560"/>
          </a:xfrm>
          <a:prstGeom prst="rect">
            <a:avLst/>
          </a:prstGeom>
          <a:ln w="0">
            <a:noFill/>
          </a:ln>
        </p:spPr>
      </p:pic>
      <p:sp>
        <p:nvSpPr>
          <p:cNvPr id="268" name="TextBox 9"/>
          <p:cNvSpPr/>
          <p:nvPr/>
        </p:nvSpPr>
        <p:spPr>
          <a:xfrm>
            <a:off x="457200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6705720" y="4572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1" descr="qm.jpg"/>
          <p:cNvPicPr/>
          <p:nvPr/>
        </p:nvPicPr>
        <p:blipFill>
          <a:blip r:embed="rId4"/>
          <a:stretch/>
        </p:blipFill>
        <p:spPr>
          <a:xfrm>
            <a:off x="7238880" y="4191120"/>
            <a:ext cx="9144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457200" y="1828800"/>
            <a:ext cx="82296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365a"/>
                </a:solidFill>
                <a:latin typeface="Arial"/>
              </a:rPr>
              <a:t>The land area of which DXCC entities border on, or touch, the geographic North Po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Canada - VE, entity code 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European Russia – UA, entity code 0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Asiatic Russia – UA, entity code 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Greenland – OX, entity code 2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N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457200" y="1828800"/>
            <a:ext cx="82296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te Rajiv Gandhi (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me Minister of India) owned the call-sign VU2RG. His widow is Sonia Gandhi… What is her call-sig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VU2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VU2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VU2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VU2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onus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ere was she bo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o currently owns VU2R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vu2rg.jpg"/>
          <p:cNvPicPr/>
          <p:nvPr/>
        </p:nvPicPr>
        <p:blipFill>
          <a:blip r:embed="rId2"/>
          <a:stretch/>
        </p:blipFill>
        <p:spPr>
          <a:xfrm>
            <a:off x="5278320" y="3505320"/>
            <a:ext cx="32562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457200" y="1828800"/>
            <a:ext cx="3048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ollowing circuit, what is the total resistance between points A &amp; 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5 Volts DC is applied to the circuit, what is the current flowing through R3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Drawing1.jpg"/>
          <p:cNvPicPr/>
          <p:nvPr/>
        </p:nvPicPr>
        <p:blipFill>
          <a:blip r:embed="rId2"/>
          <a:stretch/>
        </p:blipFill>
        <p:spPr>
          <a:xfrm>
            <a:off x="3505320" y="1981080"/>
            <a:ext cx="511020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457200" y="1828800"/>
            <a:ext cx="82296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iginal Q codes were created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r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909, by the British government  for maritime use. What query did QRG repres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at is your true bea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ere are you bound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at line do you belo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at ship or coast station i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onus ques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used in ham radio - QRG is now a query about what operating parameter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457200" y="1828800"/>
            <a:ext cx="82296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1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Technician class question po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what conditions are amateur stations allowed to communicate with stations operating in other radio servic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en other radio services make contact with amateur st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en authorized by the FC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en communicating with stations in the Family Radio Serv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en commercial broadcast stations are off the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457200" y="1828800"/>
            <a:ext cx="82296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binary representation of a ‘famous’ call sign in ASC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01110111    00110110    01010100    01100001    01001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all sig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457200" y="1828800"/>
            <a:ext cx="82296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discrete circuit is equivalent to which logic g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-input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-input N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-input OR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-input NOR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-input Exclusive NOR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desc_nor.jpg"/>
          <p:cNvPicPr/>
          <p:nvPr/>
        </p:nvPicPr>
        <p:blipFill>
          <a:blip r:embed="rId2"/>
          <a:stretch/>
        </p:blipFill>
        <p:spPr>
          <a:xfrm>
            <a:off x="4800600" y="2914560"/>
            <a:ext cx="38275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457200" y="1828800"/>
            <a:ext cx="822960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1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esting, what technique of operating does the term 'S&amp;P' refer 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Tuning a band looking for QSO'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Finding a frequency and holding it as long as pos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Changing the antennas (Switch &amp; Polarity) - vert to ho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None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457200" y="1828800"/>
            <a:ext cx="82296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1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XCC entity separates Kure Island (KH7K) from Hawaii (KH6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Midway At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Pearl &amp; Hermes At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Lisianski I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Laysan I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Content Placeholder 2"/>
          <p:cNvSpPr/>
          <p:nvPr/>
        </p:nvSpPr>
        <p:spPr>
          <a:xfrm>
            <a:off x="457200" y="1828800"/>
            <a:ext cx="8183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1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Welcome to the EARS quiz night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1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1440">
              <a:lnSpc>
                <a:spcPct val="90000"/>
              </a:lnSpc>
              <a:spcBef>
                <a:spcPts val="249"/>
              </a:spcBef>
              <a:buClr>
                <a:srgbClr val="3b643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</a:rPr>
              <a:t>A mixture of questions: historical, theoretical, operational, geographical, factu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1440">
              <a:lnSpc>
                <a:spcPct val="90000"/>
              </a:lnSpc>
              <a:spcBef>
                <a:spcPts val="249"/>
              </a:spcBef>
              <a:buClr>
                <a:srgbClr val="3b643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</a:rPr>
              <a:t>Some multiple choice – others straight answ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1440">
              <a:lnSpc>
                <a:spcPct val="90000"/>
              </a:lnSpc>
              <a:spcBef>
                <a:spcPts val="249"/>
              </a:spcBef>
              <a:buClr>
                <a:srgbClr val="3b643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</a:rPr>
              <a:t>Some easy, some tricky, some to trick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1440">
              <a:lnSpc>
                <a:spcPct val="90000"/>
              </a:lnSpc>
              <a:spcBef>
                <a:spcPts val="249"/>
              </a:spcBef>
              <a:buClr>
                <a:srgbClr val="3b643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</a:rPr>
              <a:t>But all in f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1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1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35 questions – in about 30-45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457200" y="18288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1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year, was the first telegraph message s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8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8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85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sent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457200" y="1828800"/>
            <a:ext cx="82296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1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365a"/>
                </a:solidFill>
                <a:latin typeface="Arial"/>
              </a:rPr>
              <a:t>This famed Soviet explorer held the call-sign: RA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365a"/>
                </a:solidFill>
                <a:latin typeface="Arial"/>
              </a:rPr>
              <a:t>What was his na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Kris Krenk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Ernst Krenk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Boris Zeml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Vladimir Spitzen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457200" y="1828800"/>
            <a:ext cx="82296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1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our capacitors are connected in parallel, two of which are 10µF, and two are 1µF, what is the total capacitanc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455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455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1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2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aps_ser1.jpg"/>
          <p:cNvPicPr/>
          <p:nvPr/>
        </p:nvPicPr>
        <p:blipFill>
          <a:blip r:embed="rId2"/>
          <a:stretch/>
        </p:blipFill>
        <p:spPr>
          <a:xfrm>
            <a:off x="2852640" y="3581280"/>
            <a:ext cx="5662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457200" y="18288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1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insert a simple SWR meter in your coaxial feed line, and it indicates an SWR of 4:1, the SWR meter is indicating your antenna efficiency.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Tr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Fal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imagesCANQPQX3.jpg"/>
          <p:cNvPicPr/>
          <p:nvPr/>
        </p:nvPicPr>
        <p:blipFill>
          <a:blip r:embed="rId2"/>
          <a:stretch/>
        </p:blipFill>
        <p:spPr>
          <a:xfrm>
            <a:off x="5638680" y="3581280"/>
            <a:ext cx="281952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457200" y="1828800"/>
            <a:ext cx="82296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1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General class question po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maximum transmitting power a General class licensee may use when operating between 7025 and 7125 kHz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00 watts PEP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500 watts PEP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000 watts PEP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000 watts PEP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457200" y="1828800"/>
            <a:ext cx="54864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2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satellite monitors the Sun from a stationary position between the Earth &amp; S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Uly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Cass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SO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name of that stationary posi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175799main_soho_solar_heart.jpg"/>
          <p:cNvPicPr/>
          <p:nvPr/>
        </p:nvPicPr>
        <p:blipFill>
          <a:blip r:embed="rId2"/>
          <a:stretch/>
        </p:blipFill>
        <p:spPr>
          <a:xfrm>
            <a:off x="5961240" y="2209680"/>
            <a:ext cx="2662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457200" y="1828800"/>
            <a:ext cx="43434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2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ircuit on the right, what is the approximate power dissipated in R2, given that the hfe of T1 is 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2.0µ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13.6µ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.1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.2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analog.bmp"/>
          <p:cNvPicPr/>
          <p:nvPr/>
        </p:nvPicPr>
        <p:blipFill>
          <a:blip r:embed="rId2"/>
          <a:stretch/>
        </p:blipFill>
        <p:spPr>
          <a:xfrm>
            <a:off x="4867200" y="1828800"/>
            <a:ext cx="372276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57200" y="1828800"/>
            <a:ext cx="82296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Arial"/>
              </a:rPr>
              <a:t>Question 2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DXCC entity extends the furthest Nor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J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J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KL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457200" y="1828800"/>
            <a:ext cx="82296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2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/was required to qualify for the Elser-Mathes Cu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Be at the very top of the DXCC Honor Ro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Set a new CW receiving speed rec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Have made the first trans-Pacific amateur 2-way Q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Have the first amateur 2-way QSO between the Earth and M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times has it been awar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457200" y="1828800"/>
            <a:ext cx="82296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2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outputs Q1, Q2 &amp; Q3 on the logic circuit below, given that the inputs are A=1, B=0, C=1 &amp; D=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Q1=0, Q2=0, Q3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Q1=0, Q2=0, Q3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Q1=0, Q2=1, Q3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Q1=0, Q2=1, Q3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Q1=1, Q2=0, Q3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Q1=1, Q2=0, Q3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Q1=1, Q2=1, Q3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Q1=1, Q2=1, Q3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logictest1.jpg"/>
          <p:cNvPicPr/>
          <p:nvPr/>
        </p:nvPicPr>
        <p:blipFill>
          <a:blip r:embed="rId2"/>
          <a:stretch/>
        </p:blipFill>
        <p:spPr>
          <a:xfrm>
            <a:off x="3448080" y="3124080"/>
            <a:ext cx="513540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2"/>
          <p:cNvSpPr/>
          <p:nvPr/>
        </p:nvSpPr>
        <p:spPr>
          <a:xfrm>
            <a:off x="457200" y="1828800"/>
            <a:ext cx="8183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1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457200" y="1828800"/>
            <a:ext cx="8229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First step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1840" indent="-3240">
              <a:buClr>
                <a:srgbClr val="3b64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</a:rPr>
              <a:t>Form a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3240">
              <a:buClr>
                <a:srgbClr val="3b64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</a:rPr>
              <a:t>Choose your team cap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3240">
              <a:buClr>
                <a:srgbClr val="3b64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</a:rPr>
              <a:t>Choose your team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457200" y="1828800"/>
            <a:ext cx="82296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2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ormal ‘Q’ code QLF refers to what type of signal deficien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Spl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Chi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Poor CW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Hum or Buz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457200" y="1828800"/>
            <a:ext cx="472428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2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approximate resonant frequenc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f the tuned circu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59K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.59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5.9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59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hat the circuit has a Q of 100, what  is the -3db bandwid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tuned_cct.jpg"/>
          <p:cNvPicPr/>
          <p:nvPr/>
        </p:nvPicPr>
        <p:blipFill>
          <a:blip r:embed="rId2"/>
          <a:stretch/>
        </p:blipFill>
        <p:spPr>
          <a:xfrm>
            <a:off x="5410080" y="1951200"/>
            <a:ext cx="314172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457200" y="1828800"/>
            <a:ext cx="822960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2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Extra class question po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Forward Error Correction implemente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By the receiving station repeating each block of three data charac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By transmitting a special algorithm to the receiving station along with the data charac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By transmitting extra data that may be used to detect and correct transmission err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By varying the frequency shift of the transmitted signal according to a predefined algorith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457200" y="1828800"/>
            <a:ext cx="822960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2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June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9, PI9CAM at the Dwingeloo radio telescope in the Netherlands made a successful EME contact to Australia on 23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the minimum power used during the conta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30 µ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3 m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3 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3 K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ain of the 23cm 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46.2dBd, what was the ER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IMG_1063_small.jpg"/>
          <p:cNvPicPr/>
          <p:nvPr/>
        </p:nvPicPr>
        <p:blipFill>
          <a:blip r:embed="rId2"/>
          <a:stretch/>
        </p:blipFill>
        <p:spPr>
          <a:xfrm>
            <a:off x="5105520" y="3479760"/>
            <a:ext cx="346536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457200" y="1828800"/>
            <a:ext cx="49528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2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name of the Op-Amp circu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A non-inverting amp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An inverting Amp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A voltage fol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A unity gain buffer amp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opampinv.gif"/>
          <p:cNvPicPr/>
          <p:nvPr/>
        </p:nvPicPr>
        <p:blipFill>
          <a:blip r:embed="rId2"/>
          <a:stretch/>
        </p:blipFill>
        <p:spPr>
          <a:xfrm>
            <a:off x="4952880" y="1905120"/>
            <a:ext cx="3586320" cy="2438280"/>
          </a:xfrm>
          <a:prstGeom prst="rect">
            <a:avLst/>
          </a:prstGeom>
          <a:ln w="0">
            <a:noFill/>
          </a:ln>
        </p:spPr>
      </p:pic>
      <p:sp>
        <p:nvSpPr>
          <p:cNvPr id="354" name="TextBox 5"/>
          <p:cNvSpPr/>
          <p:nvPr/>
        </p:nvSpPr>
        <p:spPr>
          <a:xfrm>
            <a:off x="457200" y="4648320"/>
            <a:ext cx="82296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1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10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at is the output voltage if the input voltage is 1V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457200" y="1828800"/>
            <a:ext cx="82296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3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chophone line of radios was produced by which manufactur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Eicho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Hallicrafters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Gonset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Hammerl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457200" y="1828800"/>
            <a:ext cx="82296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3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wrote a play, with a title which contains 2 of the names in the International Phonetic Alphab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illiam Shakespe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Neal Simon.  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Oscar Wilde.  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Robert Fr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onus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Name the p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ame the British rock-band who had a song with the same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457200" y="1828800"/>
            <a:ext cx="32004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3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Pacific Island is home to 3 DXCC ent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the 3 entities (1 point for ea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oceania-map.jpg"/>
          <p:cNvPicPr/>
          <p:nvPr/>
        </p:nvPicPr>
        <p:blipFill>
          <a:blip r:embed="rId2"/>
          <a:stretch/>
        </p:blipFill>
        <p:spPr>
          <a:xfrm>
            <a:off x="3657600" y="2438280"/>
            <a:ext cx="49132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457200" y="1828800"/>
            <a:ext cx="82296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3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ong must we wait for a Sunspot to reappear after disappearing around the limb of the S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88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3.5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7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1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imagesCAPI1E13.jpg"/>
          <p:cNvPicPr/>
          <p:nvPr/>
        </p:nvPicPr>
        <p:blipFill>
          <a:blip r:embed="rId2"/>
          <a:stretch/>
        </p:blipFill>
        <p:spPr>
          <a:xfrm>
            <a:off x="6095880" y="327672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9" descr="imagesss.jpg"/>
          <p:cNvPicPr/>
          <p:nvPr/>
        </p:nvPicPr>
        <p:blipFill>
          <a:blip r:embed="rId3"/>
          <a:stretch/>
        </p:blipFill>
        <p:spPr>
          <a:xfrm>
            <a:off x="4038480" y="380988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457200" y="1828800"/>
            <a:ext cx="82296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3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ygone days, all Soviet hams would ask you to QSL 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The Kreml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The Politbu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Box 88, Mosc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Sib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457200" y="1828800"/>
            <a:ext cx="82296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6858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efore we begin – A few ‘rules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buClr>
                <a:srgbClr val="3b643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</a:rPr>
              <a:t>No shouting out the answ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buClr>
                <a:srgbClr val="3b643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</a:rPr>
              <a:t>No asking questions once the quiz has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63680">
              <a:lnSpc>
                <a:spcPct val="100000"/>
              </a:lnSpc>
              <a:buClr>
                <a:srgbClr val="3b643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d / listen to the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63680">
              <a:lnSpc>
                <a:spcPct val="100000"/>
              </a:lnSpc>
              <a:buClr>
                <a:srgbClr val="3b643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swer the question as as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63680">
              <a:lnSpc>
                <a:spcPct val="100000"/>
              </a:lnSpc>
              <a:buClr>
                <a:srgbClr val="3b643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  <a:ea typeface="Arial"/>
              </a:rPr>
              <a:t>Points for bonus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463680">
              <a:lnSpc>
                <a:spcPct val="100000"/>
              </a:lnSpc>
              <a:buClr>
                <a:srgbClr val="3b64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  <a:ea typeface="Arial"/>
              </a:rPr>
              <a:t>No web-browsing with cell phones / PDA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463680">
              <a:lnSpc>
                <a:spcPct val="100000"/>
              </a:lnSpc>
              <a:buClr>
                <a:srgbClr val="3b643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urn off cell phones – please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63680">
              <a:lnSpc>
                <a:spcPct val="100000"/>
              </a:lnSpc>
              <a:buClr>
                <a:srgbClr val="3b643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  <a:ea typeface="Arial"/>
              </a:rPr>
              <a:t>Any questions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457200" y="18288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Arial"/>
              </a:rPr>
              <a:t>Question 35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The organizational meeting of EARS was held on March 12, 1973, in Room 60 of the Escondido High Scho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was the first club presid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as his/her call-sig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homepage.jpg"/>
          <p:cNvPicPr/>
          <p:nvPr/>
        </p:nvPicPr>
        <p:blipFill>
          <a:blip r:embed="rId2"/>
          <a:stretch/>
        </p:blipFill>
        <p:spPr>
          <a:xfrm>
            <a:off x="5195880" y="3657600"/>
            <a:ext cx="333864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457200" y="28954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00"/>
                </a:solidFill>
                <a:latin typeface="Arial"/>
              </a:rPr>
              <a:t>The end… alm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57200" y="28954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00"/>
                </a:solidFill>
                <a:latin typeface="Arial"/>
              </a:rPr>
              <a:t>Are you ready 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533520" y="1828800"/>
            <a:ext cx="7467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the acronym PARC stand for in the following URL (WEB addres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http://www.parc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0018-0503-1607-5755_symbols_and_signs_the_world_wide_web_internet.jpg"/>
          <p:cNvPicPr/>
          <p:nvPr/>
        </p:nvPicPr>
        <p:blipFill>
          <a:blip r:embed="rId2"/>
          <a:stretch/>
        </p:blipFill>
        <p:spPr>
          <a:xfrm>
            <a:off x="5562720" y="3038400"/>
            <a:ext cx="30128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57200" y="1828800"/>
            <a:ext cx="82296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2c3e"/>
                </a:solidFill>
                <a:latin typeface="Arial"/>
              </a:rPr>
              <a:t>If the US has the ARRL, the UK has the RSGB and Finland has the SR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2c3e"/>
                </a:solidFill>
                <a:latin typeface="Arial"/>
              </a:rPr>
              <a:t>Which country is associated with the ORAR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I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Ir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Ice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arrl.jpg"/>
          <p:cNvPicPr/>
          <p:nvPr/>
        </p:nvPicPr>
        <p:blipFill>
          <a:blip r:embed="rId2"/>
          <a:stretch/>
        </p:blipFill>
        <p:spPr>
          <a:xfrm>
            <a:off x="3276720" y="4038480"/>
            <a:ext cx="761760" cy="1587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rsgb_banner.gif"/>
          <p:cNvPicPr/>
          <p:nvPr/>
        </p:nvPicPr>
        <p:blipFill>
          <a:blip r:embed="rId3"/>
          <a:stretch/>
        </p:blipFill>
        <p:spPr>
          <a:xfrm>
            <a:off x="4191120" y="4038480"/>
            <a:ext cx="761760" cy="1587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sraltop.jpg"/>
          <p:cNvPicPr/>
          <p:nvPr/>
        </p:nvPicPr>
        <p:blipFill>
          <a:blip r:embed="rId4"/>
          <a:stretch/>
        </p:blipFill>
        <p:spPr>
          <a:xfrm>
            <a:off x="5105520" y="4038480"/>
            <a:ext cx="761760" cy="1563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90px-ORARI_logo.png"/>
          <p:cNvPicPr/>
          <p:nvPr/>
        </p:nvPicPr>
        <p:blipFill>
          <a:blip r:embed="rId5"/>
          <a:stretch/>
        </p:blipFill>
        <p:spPr>
          <a:xfrm>
            <a:off x="7010280" y="3048120"/>
            <a:ext cx="129564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457200" y="18288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in-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at is this componen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at is its valu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at is its toleranc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1mres.jpg"/>
          <p:cNvPicPr/>
          <p:nvPr/>
        </p:nvPicPr>
        <p:blipFill>
          <a:blip r:embed="rId2"/>
          <a:stretch/>
        </p:blipFill>
        <p:spPr>
          <a:xfrm>
            <a:off x="838080" y="4191120"/>
            <a:ext cx="75582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457200" y="1828800"/>
            <a:ext cx="723888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were the first people to observe and record the presence of sun-spots 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Sume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In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Octogen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Chin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imagesCAPI1E13.jpg"/>
          <p:cNvPicPr/>
          <p:nvPr/>
        </p:nvPicPr>
        <p:blipFill>
          <a:blip r:embed="rId2"/>
          <a:stretch/>
        </p:blipFill>
        <p:spPr>
          <a:xfrm>
            <a:off x="6095880" y="327672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imagesss.jpg"/>
          <p:cNvPicPr/>
          <p:nvPr/>
        </p:nvPicPr>
        <p:blipFill>
          <a:blip r:embed="rId3"/>
          <a:stretch/>
        </p:blipFill>
        <p:spPr>
          <a:xfrm>
            <a:off x="4038480" y="380988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23:21:32Z</dcterms:created>
  <dc:creator>Stephen&amp;Gina</dc:creator>
  <dc:description/>
  <dc:language>en-US</dc:language>
  <cp:lastModifiedBy> </cp:lastModifiedBy>
  <dcterms:modified xsi:type="dcterms:W3CDTF">2010-03-16T18:09:26Z</dcterms:modified>
  <cp:revision>359</cp:revision>
  <dc:subject/>
  <dc:title>Dxing 101</dc:title>
</cp:coreProperties>
</file>